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7117D-229A-4A89-A9FA-0EAFD7DB5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0A5F4-B4F2-4111-A571-141F90FBF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93DF3-456D-475F-B201-FFCF22017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A9B0A-4579-43BC-933A-A5A713B4F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B39BA-3453-4155-B5DC-7BE73A2B3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404A1-897D-4AE9-B463-EA117D150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2C2B9-EFED-42CC-9C5D-E0AED2117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60D5C-68A1-4ACA-98FB-9440AFE76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1921E-C1E2-4852-B822-17139F709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97419-11B6-4A14-97F0-74E85720F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9B4B9-C9AB-4769-B756-381C2630C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DC95-AA3F-4D51-8144-17FFB858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088BD-BBE1-4676-98A5-3EF6C297E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6531F-06DA-4910-8DE7-684A0E313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F06DB-4638-465F-B2A3-CFAEBEA9D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172ED-438F-444D-9165-AFD32A2ED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8409C-5BB6-4E6A-BE3A-D8517BF0F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D0FB5-7312-4AEA-B00F-816094A2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0552-93AF-4E92-AA44-BC5BC5FE8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77803-92C1-4556-BB02-159AA25B8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74B8-75AE-4130-AAEC-9644DBBE8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E05AF-508C-4E54-A284-9F34DD4A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ECB0-C3A0-48DB-AE18-8E4DFB397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7017E-9C79-4FCC-AD5C-CE4A4144A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4EB5-1ED6-4FF5-8E1E-9BAC80189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0CFB-CACA-4AED-AF18-ADD5D22AF9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beautiful horses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kabro</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2093-6A96-474F-96E0-25A5FF87F5EE}"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want you to know about the habitat that the horse lives in and also what they like what they eat. How can you treat them.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will introduce the animal to the audience.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I will to overview the entire vide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would later go into detail about what I overview.</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ly I will summarize my entire vide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money by letting the other people know about the things that horse like so they can go and buy some horses and they are going to able to fed them and take care of them.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 My movie will be special because the horses are beautiful and they are nice to ride. I tells about the things that horses like to do and e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5:42:13Z</dcterms:created>
  <dc:creator/>
  <dc:description/>
  <dc:language>en-US</dc:language>
  <cp:lastModifiedBy>City School</cp:lastModifiedBy>
  <dcterms:modified xsi:type="dcterms:W3CDTF">2013-02-20T19:13:57Z</dcterms:modified>
  <cp:revision>37</cp:revision>
  <dc:subject/>
  <dc:title>The Pitch-Then-Plan Business Planning Template</dc:title>
</cp:coreProperties>
</file>